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2106-9BDA-4000-A2E9-7715D8A90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6D34-A218-430D-90B4-C2155BD9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4D55-E2D5-4940-9561-AE274633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E6FC-7C73-48AD-A8FF-DFFA4A9A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DA78-3946-4EB4-9293-B5919DC99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BC6A-0644-472B-9476-DDD8ED255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6A7E-21C7-4FD1-9951-8A608266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7C7-630F-45CB-8F93-0B193210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C4AC-928B-4DB8-8DBB-5C47D5DE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BA52-2B6C-47C0-A8A2-E0CC9C40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052C-2CF9-4431-939D-D3900C02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5C80-E97A-40BD-895A-D970EA2CB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EDEB-6109-4CDB-957D-489BDE87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1C1-98E9-4A70-AE05-5C113EA4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4795-97B0-43D1-83A0-7B5B63B3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E1C-5B6A-4E2C-9A42-4EA248FE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EB46-89B3-442C-B454-A7A20BD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A95-9397-477C-B56B-1D2B511D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E39-BEBF-4B45-AC76-AEB93124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B66-49B8-4496-BA3D-92884B2E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833-1775-48BB-BDFB-735EBD8D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6A9-EF29-4C19-A839-52F79D7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AF4F-A35C-4A0D-A9A2-732DE4C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70A-1BB3-40E8-A5EF-418272B1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40AB-1620-4F26-8DE3-496C7DB5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Uni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Fly Sw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adaptations would most likely be found in plants that live in dry environmen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le like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p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axy 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torage in the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8520" indent="-48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st abundant tissue in a tree trunk 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baceous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 soft, green &amp;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monocots or dic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held upright by wat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amp; 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ould increase the rate of transpi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 &amp;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ould cause leaf stomata to cl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olecules moving into guard cells by 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around the plant becoming hot &amp;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molecules being excreted out by guard cells &amp; water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&amp; C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celled extensions of the root epidermis which increases water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ellings in the stem from which some roots or new leaves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egetative plant organ mainly involved in food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k, inactive wood found at the center of a woody stem – unable to conduct materials due to clogging by resins, gums, &amp; tann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an herbaceous monocot stem differ from that of an herbaceous dic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3 characteristics common to all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uses the appearance of annual ri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3 functions of ro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3 functions of 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ntify the correct word or phr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by which water vapor is released from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533520" y="6858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3055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8077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ntitious Ro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7924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685800" y="228600"/>
            <a:ext cx="74674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7925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533520" y="609480"/>
            <a:ext cx="8001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 -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would cause stomata to cl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ugar produced by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ar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Extreme water loss on a hot, dry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Both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 A, B,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of the cells of a leaf contain chlorophyll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isade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the above cells contain chlorophy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tissue of a leaf is considered to be the primary food making lay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of the following are tissues of bark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rm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most important in moving water through a tre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llar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ave an equa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2:36:47Z</dcterms:created>
  <dc:creator>NHS NPS</dc:creator>
  <dc:description/>
  <dc:language>en-US</dc:language>
  <cp:lastModifiedBy>NHS NPS</cp:lastModifiedBy>
  <dcterms:modified xsi:type="dcterms:W3CDTF">2012-05-14T11:49:48Z</dcterms:modified>
  <cp:revision>4</cp:revision>
  <dc:subject/>
  <dc:title>Plant Unit Review</dc:title>
</cp:coreProperties>
</file>